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D863-C6B3-436B-90E1-54E618A6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7FCF-7899-4490-8BD2-02E16E30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3669-9824-4C6C-87EB-B5BD8F86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F2C8-DCDF-46C5-965A-516F0C23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09CB-E9A8-48D9-B261-8A745648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B06-DE49-4891-927F-C44BF6B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091C-15C1-42C8-8458-2D040288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3FC9-F937-4EBB-BC7C-54AF7C4E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C7D-69B7-45E4-9A28-A7A02DFA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818C-2CBA-46B5-BE26-C77ED71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FF10-001E-4FD6-A6AA-D3F2D76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A2DD-47D6-45B3-B26F-7B7338B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626A-226A-4E96-A93D-0708E91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7F0-95DD-4653-878F-5511DF2F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29A8-A963-4721-A150-0919F23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F26B-4962-491B-B83B-83D0D6BD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1F95-4347-4547-A358-AA5CA7B8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1828-6EC6-4C94-B862-7967714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9803-B3D6-4733-859A-54A046FA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7095-BF33-435E-A93A-8B43AA07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6B97-ABE2-4669-AF31-CF1C0A5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40D2-E97D-401F-99DB-1B5B7D1E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9330-90DA-4FCC-B2D4-33F01E9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3366-3169-4717-A8B7-3091997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0EB3-85A6-490B-8B21-21AFD13131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3DE-03B2-482B-8397-EF7FD3773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icro.magnet.fsu.edu/primer/java/scienceopticsu/powersof10/" TargetMode="External"/><Relationship Id="rId2" Type="http://schemas.openxmlformats.org/officeDocument/2006/relationships/hyperlink" Target="http://micro.magnet.fsu.edu/primer/java/scienceopticsu/powersof10/" TargetMode="External"/><Relationship Id="rId3" Type="http://schemas.openxmlformats.org/officeDocument/2006/relationships/hyperlink" Target="http://micro.magnet.fsu.edu/primer/java/scienceopticsu/powersof10/" TargetMode="External"/><Relationship Id="rId4" Type="http://schemas.openxmlformats.org/officeDocument/2006/relationships/hyperlink" Target="http://micro.magnet.fsu.edu/primer/java/scienceopticsu/powersof10/" TargetMode="External"/><Relationship Id="rId5" Type="http://schemas.openxmlformats.org/officeDocument/2006/relationships/hyperlink" Target="http://micro.magnet.fsu.edu/primer/java/scienceopticsu/powersof10/" TargetMode="External"/><Relationship Id="rId6" Type="http://schemas.openxmlformats.org/officeDocument/2006/relationships/hyperlink" Target="http://micro.magnet.fsu.edu/primer/java/scienceopticsu/powersof10/" TargetMode="External"/><Relationship Id="rId7" Type="http://schemas.openxmlformats.org/officeDocument/2006/relationships/hyperlink" Target="http://micro.magnet.fsu.edu/primer/java/scienceopticsu/powersof10/" TargetMode="Externa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ying Mathematical Concepts to Chemist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cognizing Sig Fig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Placeholder zeros are not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0.01g has one sig fi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00g has one sig fi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00.g has four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00.0g has five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Counting numbers and constants have infinite significant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 people has infinite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ule for Multiplying/Dividing Sig Fig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y as usual in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 answer to same number of sig figs as the lowest original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00 x 123.456 = 123456 = 10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00. x 123.456 = 123456 = 123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actice Multiplying/Divid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20 x 1.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412 x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2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2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400 / 613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ule for Adding/Subtrac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 answer to least “precise” original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1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     1.23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87692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actice Adding/Subtrac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.23 + 56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000954 + 5.05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5.0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0045 – 0.0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nits of Measu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its- scientifically accepted units of meas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Know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(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 (g/m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Metric Syst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18478" b="48153"/>
          <a:stretch/>
        </p:blipFill>
        <p:spPr>
          <a:xfrm>
            <a:off x="167652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297180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tric Practi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623.19 hL = __________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026 mm = ___________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.025 kg =  ___________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line Powers of 10 Demonst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1"/>
              </a:rPr>
              <a:t>http://micro.magnet.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2"/>
              </a:rPr>
              <a:t>fsu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4"/>
              </a:rPr>
              <a:t>edu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5"/>
              </a:rPr>
              <a:t>/primer/java/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6"/>
              </a:rPr>
              <a:t>scienceopticsu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7"/>
              </a:rPr>
              <a:t>/powersof10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ood Info to Kno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- amount of space an object takes up (ex: li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= l x w x 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 mL by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429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ore Good Info to Kno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different from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ss ≠ 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ss= measure of the amount of matter in an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eight= force caused by  the pull of gravity on an obje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***Mass is constant while weight varies               depending on the location of an object***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ise format for representing extremely large or smal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51588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umber between 1 and 9.99999999…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51588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ower of t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51588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6.02 x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23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= 602,000,000,000,000,000,000,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2.0 x 10 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-7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m = 0.0000002 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Use calculator to solve problems on p. 788-7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117" idx="2"/>
          </p:cNvCxnSpPr>
          <p:nvPr/>
        </p:nvCxnSpPr>
        <p:spPr>
          <a:xfrm>
            <a:off x="5105160" y="5638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erature Sc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7010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erature Convers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s Celsius to Kelv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elv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elsi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C = ?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elv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25 +273=298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vin to Degrees Cels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elsi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elv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2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210 K = ?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273–210= 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rived Quantities- Densi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- how much matter is in the volume an object takes up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 = mass/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= g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0" r="0" b="22232"/>
          <a:stretch/>
        </p:blipFill>
        <p:spPr>
          <a:xfrm>
            <a:off x="3505320" y="3276720"/>
            <a:ext cx="5333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termining Density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- measure in grams with ba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gular shaped object: measure sides and use volume formul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: rectangle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V= l x w x 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rregular shaped object: water displac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nsity by Water Displace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graduated cylinder to known initia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fina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ract initial volume from fina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volume of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aphing Da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t pa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ven sca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st fit/trendli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formative Tit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beled Ax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257440" y="19810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24080" y="1754280"/>
            <a:ext cx="5715000" cy="5103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7339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Volume Impact Tempera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curacy vs Precis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04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racy- closeness of measurements to the targe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Error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宋体"/>
              </a:rPr>
              <a:t>- difference between measured value and accepted value (absolute valu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7440" y="19807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ion- closeness of measurements 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1485" t="0" r="0" b="-908"/>
          <a:stretch/>
        </p:blipFill>
        <p:spPr>
          <a:xfrm>
            <a:off x="5181480" y="3753000"/>
            <a:ext cx="3962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ercent Erro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error = (accepted-experimental)  x 10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The measured mass is 5.0g.  It was predicted that the accepted value should have been 6.0 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error = 6.0g-5.0g x 100 = 16.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25146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3341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ignificant Figu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are limited in their sensitivity by the instrument used to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4945" r="0" b="22992"/>
          <a:stretch/>
        </p:blipFill>
        <p:spPr>
          <a:xfrm>
            <a:off x="3962520" y="3733920"/>
            <a:ext cx="4419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stimating Measure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ne place past the instr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.0 mL is saying the actual measurement is between               34.9  and 35.1 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381024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Significant Figure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involve ro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ing/dividing or adding/subtracting measurements can not make them mor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way to tell how sensitive a measurement really i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≠ 5.0 ≠ 5.00 ≠ 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160" y="456840"/>
            <a:ext cx="7010280" cy="563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cognizing Significant Digi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Nonzero digits are always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43.21 meters has 5 significant figu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Zeros between nonzeros are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05.05 liters has 5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Zeros to the right of a decimal and a nonzero are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3.10 has 3 sig fig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2:08:30Z</dcterms:created>
  <dc:creator>cmichene</dc:creator>
  <dc:description/>
  <dc:language>en-US</dc:language>
  <cp:lastModifiedBy>Dawn Pav</cp:lastModifiedBy>
  <dcterms:modified xsi:type="dcterms:W3CDTF">2010-09-27T20:42:07Z</dcterms:modified>
  <cp:revision>50</cp:revision>
  <dc:subject/>
  <dc:title>Data Analysis</dc:title>
</cp:coreProperties>
</file>